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17E0-27E8-4A60-8FD5-35AA291BFE6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8A4E-AFD3-4208-B465-340A52AC61E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11480" cy="36846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968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C36C-84FD-4910-A38F-F2AC013B0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20A4-8184-423C-A961-A99D23199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F1927-500B-4F73-823A-E463CDAD0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60EA-AF93-4EDE-B3B6-8961798FB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AE13-CFC4-406D-B2B9-EE3688183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7839-A696-4FDD-A2F7-C5BB47E2B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0701-47AA-4310-B73A-620AE8542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11B9-5387-4824-A6A6-A7438B16A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4C8B-A1D4-4151-AA02-7DF49E49D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A38D-4B8A-4D7D-9C60-C1154D44D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E0FE-9022-46AE-918D-27D122AB6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122A-16C1-4409-A282-776D4713B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619440" y="6568200"/>
            <a:ext cx="19051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1366F19E-A280-47C7-8A00-49A43181603E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91584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don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rcRect l="-3966" t="-1041" r="12340" b="49634"/>
          <a:stretch/>
        </p:blipFill>
        <p:spPr>
          <a:xfrm>
            <a:off x="7232760" y="6342120"/>
            <a:ext cx="1533240" cy="2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-3966" t="-1041" r="12340" b="49634"/>
          <a:stretch/>
        </p:blipFill>
        <p:spPr>
          <a:xfrm>
            <a:off x="7232760" y="6342120"/>
            <a:ext cx="1533240" cy="29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9960" y="-92160"/>
            <a:ext cx="73915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TA Adonis</a:t>
            </a:r>
            <a:r>
              <a:rPr b="1" lang="de-DE" sz="2400" spc="-1" strike="noStrike">
                <a:solidFill>
                  <a:srgbClr val="6d2435"/>
                </a:solidFill>
                <a:latin typeface="Arial"/>
              </a:rPr>
              <a:t>	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us 13.3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24040" y="1028880"/>
            <a:ext cx="7440480" cy="58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9D7E-E9AA-4768-A165-6EA4384EA7D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 </cp:lastModifiedBy>
  <cp:lastPrinted>2004-02-29T14:41:19Z</cp:lastPrinted>
  <dcterms:modified xsi:type="dcterms:W3CDTF">2005-03-16T09:31:36Z</dcterms:modified>
  <cp:revision>4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54289766</vt:r8>
  </property>
  <property fmtid="{D5CDD505-2E9C-101B-9397-08002B2CF9AE}" pid="3" name="_AuthorEmail">
    <vt:lpwstr>lars.winking@siemens.com</vt:lpwstr>
  </property>
  <property fmtid="{D5CDD505-2E9C-101B-9397-08002B2CF9AE}" pid="4" name="_AuthorEmailDisplayName">
    <vt:lpwstr>Winking Lars Com MD PBM BA PG75</vt:lpwstr>
  </property>
  <property fmtid="{D5CDD505-2E9C-101B-9397-08002B2CF9AE}" pid="5" name="_EmailSubject">
    <vt:lpwstr>MTA Update Adonis</vt:lpwstr>
  </property>
</Properties>
</file>